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A90-85F7-4EB4-8024-8FF35FCD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51D-984A-4C2A-A1B1-EAEC3DB4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9E5-25C9-4772-9F88-7A82C309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D29-FD15-482D-9688-C2EA3F4B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855-55CA-4665-BCBC-D82018CB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4E4-5908-4A31-9FBB-B11CB90E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AF0-DD5C-4FF0-8645-2F2D8286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A76-B797-439F-A351-282ED62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D77-30CE-48FC-9759-2B07CC48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A13-1B7D-44A5-8167-F7D1B097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E6E-E97D-4EDE-9274-A1A4392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B22-443D-47E4-82F2-BF89569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62732-212A-4076-A922-D3583ECADA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IVERSITÄT BR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tran batch to prepare spectra and sfit4.c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uld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 in hdf file (or similar) by the b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roid Sans"/>
              </a:rPr>
              <a:t>Improves speed to read in results, especially via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roid Sans"/>
              </a:rPr>
              <a:t>much more efficient usage of disk space (by a factor 1000 or 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DF File creation for ND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 read in matlab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lab script, variables in a csv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le for all gases using the same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uld like to ch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ython as batch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ror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rudimentary, mostly defualt error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uld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K-matrices calculated by sfit4 for last state, either automatically by sfit4 or by a batching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include some more line to calculate K-matrix for temperature, line intensity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45:33Z</dcterms:created>
  <dc:creator/>
  <dc:description/>
  <dc:language>en-US</dc:language>
  <cp:lastModifiedBy/>
  <dcterms:modified xsi:type="dcterms:W3CDTF">2012-11-21T20:03:32Z</dcterms:modified>
  <cp:revision>3</cp:revision>
  <dc:subject/>
  <dc:title/>
</cp:coreProperties>
</file>