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70B5-5254-4C35-8822-EBB29EBAD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34D6-2EF1-4729-A2A2-09B341D4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30F0-0510-487A-A09C-1B2E645C2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A46C-6E9D-4D4F-A856-7FE4A5FB3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768C-F7FF-4662-8126-B2BF9023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59C1-9ABA-4738-A6E2-92AA4E58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AD12-17FF-47BA-B241-38DA3D33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F5D8-845A-4F26-B67C-15C77467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8FC0-BE18-4EFD-801B-E472A2E8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0D34-FFEE-4C2F-AEFD-DA2105F3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11AE-6495-4FE5-A6B8-0981F9A5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5158-40FF-4F14-AF63-D09C399F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8E09-B533-4D29-9C6D-33F9FC0F8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 u="sng">
                <a:solidFill>
                  <a:srgbClr val="000000"/>
                </a:solidFill>
                <a:uFillTx/>
                <a:latin typeface="Arial"/>
              </a:rPr>
              <a:t>Jungfraujoch Bruker 120-HR flow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spectra name: Syymdd.D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not OPUS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batch to download spectra from Jungfraujoch to Liè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nversion of spectra into binary format usable by SFIT (TORIN.FOR) or PROFFIT (TOPROF.F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FIT-2 (v3.91) batch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43588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ACHAB39.C: fits a list of spectra according to a template B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for each spectrum, adapt BINPUT and RDRV.CTL to have the actual ZA, VMR, airmass file, output files names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« -k » option = output K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run BATCHF39.B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BNR2AS39.F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OPTIX39.C: compute airmass for ZA (= our FASTCO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RDRV39.F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ff0000"/>
                </a:solidFill>
                <a:latin typeface="Arial"/>
              </a:rPr>
              <a:t>[SX39.FOR] </a:t>
            </a:r>
            <a:r>
              <a:rPr b="0" lang="fr-BE" sz="14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fr-BE" sz="1400" spc="-1" strike="noStrike">
                <a:solidFill>
                  <a:srgbClr val="ff0000"/>
                </a:solidFill>
                <a:latin typeface="Arial"/>
              </a:rPr>
              <a:t> AK &amp; error compu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output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Pyymdd.dat = modified « plot » file (added infos = Hitran, VMR, location, version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Dyymdd.dat = « detail »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Vyymdd.dat = « statevec »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Vyymdd.dat.mxf = « VMR »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Yyymdd.dat = « summary »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Yyymdd.dat.st = « summary2 »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Kyymdd.dat = « K matrix » file (K, Se_inv, Sa_in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ff0000"/>
                </a:solidFill>
                <a:latin typeface="Arial"/>
              </a:rPr>
              <a:t>Zyymdd.dat = covariance of the </a:t>
            </a:r>
            <a:r>
              <a:rPr b="0" i="1" lang="fr-BE" sz="1400" spc="-1" strike="noStrike">
                <a:solidFill>
                  <a:srgbClr val="ff0000"/>
                </a:solidFill>
                <a:latin typeface="Arial"/>
              </a:rPr>
              <a:t>a priori</a:t>
            </a:r>
            <a:r>
              <a:rPr b="0" lang="fr-BE" sz="1400" spc="-1" strike="noStrike">
                <a:solidFill>
                  <a:srgbClr val="ff0000"/>
                </a:solidFill>
                <a:latin typeface="Arial"/>
              </a:rPr>
              <a:t> vertical profile (COL or VMR units, CSV or TXT form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ff0000"/>
                </a:solidFill>
                <a:latin typeface="Arial"/>
              </a:rPr>
              <a:t>Xyymdd.dat = covariance of the retrieved vertical profile (COL or VMR units, CSV or TXT format) [including the smoothing error componen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ff0000"/>
                </a:solidFill>
                <a:latin typeface="Arial"/>
              </a:rPr>
              <a:t>Ayymdd.dat = averaging kernels (COL or VMR units, .CSV or .TXT form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X39.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82440"/>
            <a:ext cx="8229600" cy="51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K   (</a:t>
            </a:r>
            <a:r>
              <a:rPr b="0" i="1" lang="fr-BE" sz="2000" spc="-1" strike="noStrike">
                <a:solidFill>
                  <a:srgbClr val="000000"/>
                </a:solidFill>
                <a:latin typeface="Arial"/>
              </a:rPr>
              <a:t>m x n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KMAT file ("K matrix") </a:t>
            </a:r>
            <a:r>
              <a:rPr b="0" lang="fr-B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     Se_inv   (</a:t>
            </a:r>
            <a:r>
              <a:rPr b="0" i="1" lang="fr-BE" sz="2000" spc="-1" strike="noStrike">
                <a:solidFill>
                  <a:srgbClr val="000000"/>
                </a:solidFill>
                <a:latin typeface="Arial"/>
              </a:rPr>
              <a:t>m x 1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a_inv  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 x 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al columns COLPR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file ("999") </a:t>
            </a:r>
            <a:r>
              <a:rPr b="0" lang="fr-B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MASS  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R file </a:t>
            </a:r>
            <a:r>
              <a:rPr b="0" lang="fr-B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MRP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COLPRF = VMRPRF * A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ibution function matrix D (eq. 28 of Rogers 1990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KTSe_inv (i,j)  =  K(j,i)  x  Se_inv(j)      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 x 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 =  ( KTSe_inv x K  +  Sa_inv 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–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x  KTSe_in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averaging kernel matrix 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 =  D x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irical a priori covariance matrix used for the retrieval (Sar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ar  =  (Sa_inv)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–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 covariance matrix of the retrieved vertical profile (Sx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x  =  ( I - A )  Sa          (I = identity matri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6920" y="1252440"/>
            <a:ext cx="288720" cy="847800"/>
          </a:xfrm>
          <a:custGeom>
            <a:avLst/>
            <a:gdLst>
              <a:gd name="textAreaLeft" fmla="*/ 184680 w 288720"/>
              <a:gd name="textAreaRight" fmla="*/ 289080 w 288720"/>
              <a:gd name="textAreaTop" fmla="*/ 21960 h 847800"/>
              <a:gd name="textAreaBottom" fmla="*/ 825840 h 84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 u="sng">
                <a:solidFill>
                  <a:srgbClr val="000000"/>
                </a:solidFill>
                <a:uFillTx/>
                <a:latin typeface="Arial"/>
              </a:rPr>
              <a:t>Preparing HDF archiv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362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2HDF.C: from a list of [fitted] spectra, generate files needed for HD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g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e of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list of spectra] (default : all in current dir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start date], [end dat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instrumen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template metadat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metadata file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data file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ed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d Pyym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 database (date, time, surface p &amp; T, integration time, azimuth, apparent and astronomical zenith ang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PT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yymdd.dat.VMR.CSV (covariance of the retrieved vertical profile) (from SX3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yymdd.dat.COL.CSV (averaging kernels, column units) (from SX3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DF files 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reate HDF file from metadata and data files output by OUT2HD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C2HDF: slow, not compatible with GEOMS HDF, no more supported by NI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CR8 tools (AVD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L virtual machine (batch not possible !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[batch possible only with IDL licens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9T10:43:29Z</dcterms:created>
  <dc:creator>Philippe Demoulin</dc:creator>
  <dc:description/>
  <dc:language>en-US</dc:language>
  <cp:lastModifiedBy>Philippe Demoulin</cp:lastModifiedBy>
  <dcterms:modified xsi:type="dcterms:W3CDTF">2012-11-26T15:30:00Z</dcterms:modified>
  <cp:revision>24</cp:revision>
  <dc:subject/>
  <dc:title>Diapositive 1</dc:title>
</cp:coreProperties>
</file>