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D5D-81F8-492D-B856-E1924B77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271-40B5-4B99-9BBB-2978336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816-6D78-4676-BF88-A9F4CD28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985-E80F-4677-AB7F-5132540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A18-9C77-44DC-8F53-336B5C1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863-68B3-4326-A299-3F8CCDD7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B76-E553-4324-AD30-718EDF7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FED-ED18-40C4-8A0E-68616B9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D19-0F42-4097-BC65-2D1F891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763-CE31-4895-9359-679CA2A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9A4-42C5-4AD2-A333-4DAD7FB3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C71-5539-4752-A5FA-C909904C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5F4-9D71-4FA9-B659-9F6FFF68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GUI-extension for Align</a:t>
            </a:r>
            <a:br>
              <a:rPr sz="4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Smale,  F. Has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: &lt;d.smale@niwa.co.nz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’ Shell for Align51 (Linefit ver9,Hase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modifies input file align5.inp and executes Align51.ex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ualisation and Diagnostic tool relating Bruker 120M/120HR type corner cube misalignment to ILS and Haidinger fri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d in Linefit ver10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d in IDL, will run under IDL v5.4 or later 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14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1136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I_ALIGN51 screen shot: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586728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2971800"/>
            <a:ext cx="19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defined instrument parameters and corner cube misalignment parame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8380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e align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952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gn51 output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</cp:lastModifiedBy>
  <dcterms:modified xsi:type="dcterms:W3CDTF">2006-02-22T12:15:0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