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8189-F9BD-4312-9FE6-C0F6143E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5502-EDDA-418C-A7C3-F001EC93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902-6FA4-4641-A7F0-C3B65C53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88B-2775-4F12-A4E1-8D6614EA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4D1-6F81-4F33-A264-A8D2362C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17F-62CB-4022-987D-8F7E0CC8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806B-FB59-452C-B852-6730AEEA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069-7387-40F5-962D-506B946A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6F8-41ED-4F41-A805-FF9B4453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746-71C8-45BE-B96B-4E5C861F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69D3-CC20-4895-88FF-581B4832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F83-3EAF-4621-B662-C0219958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8F2B-0472-4641-BA01-8A5319B71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GUI-extension for Align</a:t>
            </a:r>
            <a:br>
              <a:rPr sz="48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. Smale,  F. Has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ct: &lt;d.smale@niwa.co.nz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’ Shell for Align51 (Linefit ver9,Hase,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modifies input file align5.inp and executes Align51.ex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sualisation and Diagnostic tool relating Bruker 120M/120HR type corner cube misalignment to ILS and Haidinger fri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d in Linefit ver10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ded in IDL, will run under IDL v5.4 or later ver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25146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2511360" cy="60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66520" y="-360"/>
            <a:ext cx="495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I_ALIGN51 screen shot: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819520" y="685800"/>
            <a:ext cx="5867280" cy="5791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2971800"/>
            <a:ext cx="199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r defined instrument parameters and corner cube misalignment parame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8380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e align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9528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ign51 output 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</cp:lastModifiedBy>
  <dcterms:modified xsi:type="dcterms:W3CDTF">2006-02-22T12:15:02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