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2150E4C5-B205-45C7-9022-82F6700E3D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E739C2CD-7C74-4E66-8D54-076B054578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00EBB2C8-FCD8-43F6-957F-824DF107B3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74A7D645-E254-49D9-BE92-57784E90CF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E2C1005C-6B93-41D4-855B-0C6BE34437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1D26D54B-8C5F-4570-BDB4-E33CA48C43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88D63B48-737D-4EEB-8768-53D0094088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0018DB3E-8759-40E7-8AD7-5743E59C32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3F500395-43D3-44C4-9C8E-B40C3ECB7F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D56E-D6FB-4E5B-B6B5-91CA7CF5D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BFA2-1E10-47AE-8570-FA2CF78DA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687D-42DC-4AA3-915E-B8D2A334D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DE4D-0A8C-4473-A0CB-C73BD507C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7879-8138-4412-BA18-4DEA876597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7FF8-0E7E-47E0-B0E5-62D015B3C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6BAB-EB03-46BF-A4F2-E70B6F2715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4E83-CD0B-45BE-8067-111CA9DA08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384C-A60A-43D5-84C1-6CFBCF76E5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9055-30A2-495A-A282-E69892BE84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1704-A81A-4C0A-BE24-B82FB043B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AB55-5371-4228-9288-90508BF8A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D924-A929-48D3-948A-65C3CE8B3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332C-4513-4597-A8D8-37B1221CF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735E-8CE9-4EE2-88D4-6A33DA148C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FF44-BBDF-41ED-A866-3265FAF44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AAA1-C6A7-4523-932C-E5AAE26F4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15CC-D176-45CD-955E-4EC711AB3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358F-B94F-4BC8-91C3-8DD7EC893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B35F-55C0-40EB-BA24-D7753D905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A852-B2E7-4BD4-AFF4-B628131E9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20FD-4413-40A0-8BC5-296590597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1B86-408D-46C5-95F8-8CF2853AF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1377-7BC8-41D1-AA7A-1FEFB1641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F445D-1929-471A-843B-ADF4BF98A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488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F5EF1CFC-58D9-4E69-8D02-65A9D3276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19200" y="1380960"/>
            <a:ext cx="7772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TE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ät Br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095640" y="4010040"/>
            <a:ext cx="287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ias Pal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ristof P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orsten Warn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us Notho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017880" y="1806480"/>
            <a:ext cx="7429320" cy="560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-1506600" y="-365040"/>
            <a:ext cx="7634520" cy="5754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846680" y="274680"/>
            <a:ext cx="3495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IR sites operated by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Br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5578560"/>
            <a:ext cx="418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DACC/TC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TCCON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7680" y="1592280"/>
          <a:ext cx="8690040" cy="2909880"/>
        </p:xfrm>
        <a:graphic>
          <a:graphicData uri="http://schemas.openxmlformats.org/drawingml/2006/table">
            <a:tbl>
              <a:tblPr/>
              <a:tblGrid>
                <a:gridCol w="3013200"/>
                <a:gridCol w="1450800"/>
                <a:gridCol w="1461960"/>
                <a:gridCol w="1597320"/>
                <a:gridCol w="1166760"/>
              </a:tblGrid>
              <a:tr h="668160">
                <a:tc>
                  <a:txBody>
                    <a:bodyPr lIns="90000" rIns="90000" tIns="110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Ny Alesu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re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aramari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al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685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ays of measur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5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648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Last year of submissions to NDACC Database 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17 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17 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17 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No submi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67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ata used in publications 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10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10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72"/>
          <p:cNvSpPr/>
          <p:nvPr/>
        </p:nvSpPr>
        <p:spPr>
          <a:xfrm>
            <a:off x="274680" y="4572000"/>
            <a:ext cx="4927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 All measurements in 2016 and 1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) Numbers in brackets are the gases submitted in 2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9601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 measurements in Suri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42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1520" y="9216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S/N2O ratio over Pal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100160"/>
            <a:ext cx="5394240" cy="4111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74680" y="5194440"/>
            <a:ext cx="86868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rument is equipped with an INSB cooled with a Stirling mo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erling cooling failed in early 2017 and is since being repai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94240" y="1279440"/>
            <a:ext cx="38512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au is in the Pacif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p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trace g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ach the stratosp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reg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gh OCS/N2O rat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a high value of O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trop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8080" y="92160"/>
            <a:ext cx="7770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stern campa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around Svalbar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"/>
          <p:cNvSpPr/>
          <p:nvPr/>
        </p:nvSpPr>
        <p:spPr>
          <a:xfrm flipH="1" flipV="1">
            <a:off x="5849640" y="3016080"/>
            <a:ext cx="137484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 rot="13680000">
            <a:off x="5493600" y="3568320"/>
            <a:ext cx="2077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IR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60680" y="2928960"/>
            <a:ext cx="6400800" cy="502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-26537" t="-29365" r="6322" b="17586"/>
          <a:stretch/>
        </p:blipFill>
        <p:spPr>
          <a:xfrm>
            <a:off x="2563920" y="1565280"/>
            <a:ext cx="6419880" cy="290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-101520" y="-90360"/>
            <a:ext cx="2662200" cy="699912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5851440" y="3016080"/>
            <a:ext cx="185760" cy="164952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65040" y="3382920"/>
            <a:ext cx="80884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stern cru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: variation of tropospheric trace gases and clou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arallel absorption and emission measurements using FTIR spectrom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914400" y="139680"/>
            <a:ext cx="7172280" cy="3060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978440" y="355680"/>
            <a:ext cx="3174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lin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CH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 flipH="1">
            <a:off x="3290760" y="1006560"/>
            <a:ext cx="1689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851440" y="1189080"/>
            <a:ext cx="9216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7132680" y="118908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772400" y="12794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6489360" y="1189080"/>
            <a:ext cx="954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4387680" y="1189080"/>
            <a:ext cx="219744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85800" y="-1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blications 2016/1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47680" y="915840"/>
            <a:ext cx="871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2160" y="1243080"/>
            <a:ext cx="8778960" cy="68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thlott, S. et.al. .Tropospheric water vapour isotopologue data (H216O, H218O, and HD16O) as obtained from NDACC/FTIR solar absorption spectra Earth System Science Data, 2017, 9, 15-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chmann, M. et.al. The arctic seasonal cycle of total column CO2 and CH4 from ground-based solar and lunar FTIR absorption spectrometry Atmospheric Measurement Techniques, 10 (7), pp. 2397-2411, 20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chmann, M. et.al. Retrieval of xCO(2) from ground-based mid-infrared (NDACC) solar absorption spectra and comparison to TCCON ATMOSPHERIC MEASUREMENT TECHNIQUES, 2016, Vol. 9(2), pp. 577-585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mers, E. et. al. Validation of the CrIS fast physical NH3 retrieval with ground-based FTIR Atmospheric Measurement Techniques, 10 (7), pp. 2645-2667 20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mers, E., et.al. An evaluation of IASI-NH3 with ground-based Fourier transform infrared spectroscopy measurements ATMOSPHERIC CHEMISTRY AND PHYSICS, 2016, Vol. 16(16), pp. 10351-103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n, Y. et.al. Technical note: Sensitivity of instrumental line shape monitoring for the ground-based high-resolution FTIR spectrometer with\newline respect to different optical attenuators Atmospheric Measurement Techniques, 10, 989-997, 20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ng, Y., et.al. Towards understanding the variability in biospheric CO2 fluxes: using FTIR spectrometry and a chemical transport model to investigate the sources and sinks of carbonyl sulfide and its link to CO2 ATMOSPHERIC CHEMISTRY AND PHYSICS, 2016, Vol. 16(4), pp. 2123-2138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76040" y="1843200"/>
            <a:ext cx="929664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627200" y="1917720"/>
            <a:ext cx="6394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8:39:53Z</dcterms:created>
  <dc:creator>Thorsten Warneke</dc:creator>
  <dc:description/>
  <dc:language>en-US</dc:language>
  <cp:lastModifiedBy>warneke</cp:lastModifiedBy>
  <dcterms:modified xsi:type="dcterms:W3CDTF">2018-06-13T21:35:04Z</dcterms:modified>
  <cp:revision>298</cp:revision>
  <dc:subject/>
  <dc:title>PowerPoint-Präsentation</dc:title>
</cp:coreProperties>
</file>